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AF7-836B-478D-8B17-C0D431A8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7981-3D71-4C00-93DE-6C328913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552-4ECD-40E4-AA8A-BAAC8B1B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9264-52BC-4568-9D4D-B0E7B7DA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9162-B41F-4733-8A5E-E4976EF5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27FC-0D69-47FC-A040-EC7EC7E9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131F-9925-45B6-BA76-B73AAD68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1C8D-4507-42FD-AD56-685430BA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798E-2362-4B1E-847E-C529DEED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9B8E-B341-46C9-8875-ED9A15CB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360-3579-4785-BD54-B3452AAF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396-1214-4DC8-86FF-02CBBCCF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5FA7-BE4C-48DC-A6A7-DD7C6C5D7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ZAKON O SANITARNOM NADZ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f. Dr Zoran Veličkov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lasti koje podležu sanitarnokm nadzoru obuhvata inspekcijski nadz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5) lica zaposlenih na određenim poslovima u objektima koja podležu sanitarnom nadzoru i obaveznim zdravstvenim pregledima na propisani nač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6)  namenskih prevoznih sredstava i njihove opre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d namenskim prevoznim sredstvima podrazumevaju 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91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) sredstva za prevoz životnih namirnica i predmeta opšte upotreb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) sredstva za prevoz putnika u javnom saobraćaj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) sanitetska prevozna sredstva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) prevozna sredstva registrovana za porevoz umrlih 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jekti u kojima se obavl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91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) zdravstvena delatno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) Delatnost proizvodnje i prometa životnih namirnica i predmeta opšte upotreb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) Delatnost javnog snabdevanja stanovništva vodom za pić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) Ugostiteljska delatno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jekti u kojima se obavl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91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5) delatnost pružanja usluga održavanja higijene, nege i ulepšavanja lica i tela i nemedicinskih estetskih intervencija kojima se narušava integritet kož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6) Delatnost socijalne zašti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jekti u kojima se obavl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91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7) vaspitno – obrazovna delatnos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8) delatnost kulture, fizičke kulture, sporta i rekreacij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9) delatnost javnog saobraćaja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0) </a:t>
            </a:r>
            <a:r>
              <a:rPr b="0" lang="sr-Latn-RS" sz="28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ugi objekti određeni zakon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lasti koje podležu sanitarnokm nadz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Čl.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ca koja obavljaju delatnost u objektima dužni su da održavaju higijenu u objektu i neposrednom okruženju, održavaju higijenu prostorija, pšostrojenja, uređaja, nameštaja, opreme, pribora, namenskih prevoznih sredstava, higijenu radne odeće i obuće zaposlenih lica i preduzimaju druge higijenske mere u cilju zaštite zdravlja stanovništ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lasti koje podležu sanitarnokm nadz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Čl.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ca koja obavljaju delatnost u objektima dužni su da održavaju higijenu u objektu i neposrednom okruženju, održavaju higijenu prostorija, pšostrojenja, uređaja, nameštaja, opreme, pribora, namenskih prevoznih sredstava, higijenu radne odeće i obuće zaposlenih lica i preduzimaju druge higijenske mere u cilju zaštite zdravlja stanovništ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vlašćenja, prava i dužnosti sanitarnog inspek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 vršenju sanitarnog nadzora inspektor može uzeti uzorke životnih namirnica, predmeta opšte upotrebe i vode za piće radi laboratorijskog ispitivanja njihove zdravstvene ispravnosti, briseva ruku zaposlenih, postrojenja, uređaja, nameštaja, opreme i pribora za obavljenje delatnosti radi laboratorijskog ispitivanja njihove higijenske ispravnosti, kao i uzorke sterilisanog ,aterijala i sterilisanih instrumenata radi utvrđivanja njihove steril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vlašćenja, prava i dužnosti sanitarnog inspek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oškove laboratorijskog ispitivanja snosi pravno licve, organizacija ili preduzetnik koji obavlja delatnost u objektu u kojem su uzeti brisevi, odnosno uzor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vlašćenja, prava i dužnosti sanitarnog inspek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 oblasti zaštite stanovništva od zaraznih bolesti inspektor je ovlaćšćen da vrši nadzor nad sprovođenjem propisanih mera radi sprečavanja pojave, suzbijanja, eliminacije i iskorenjivanja zaraznih bolsti, kao i da preduzima druge mere i rad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slovi sanitarnog nadz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vim zakonom se određuju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slovi sanitarnog nadzora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čin i postupak vršenja sanitarnog nadzora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dređuju se oblasti i objekti koji podležu nadzoru i sanitarni uslovi koje ti objekti moraju ispunjavati, ovlašćenja, prava i dužnosti sanitarnih inspektora u postupku sanitarnog nadz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vlašćenja, prava i dužnosti sanitarnog inspek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RS" sz="2400" spc="-1" strike="noStrike">
                <a:solidFill>
                  <a:srgbClr val="ffffff"/>
                </a:solidFill>
                <a:latin typeface="Comic Sans MS"/>
              </a:rPr>
              <a:t>U postupcima izgradnje, odnosno rekonstrukcije tih objekata sanitarni inspektor daje saglasnost na idejni projekat 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RS" sz="2400" spc="-1" strike="noStrike">
                <a:solidFill>
                  <a:srgbClr val="ffffff"/>
                </a:solidFill>
                <a:latin typeface="Comic Sans MS"/>
              </a:rPr>
              <a:t>1) objekte u kojima se obavlja zdravstvena delatno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RS" sz="2400" spc="-1" strike="noStrike">
                <a:solidFill>
                  <a:srgbClr val="ffffff"/>
                </a:solidFill>
                <a:latin typeface="Comic Sans MS"/>
              </a:rPr>
              <a:t>2) objekte za javno snabdevanje stanovništva vodom za pić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RS" sz="2400" spc="-1" strike="noStrike">
                <a:solidFill>
                  <a:srgbClr val="ffffff"/>
                </a:solidFill>
                <a:latin typeface="Comic Sans MS"/>
              </a:rPr>
              <a:t>3) objekte za proizvodnju životnih namirnica putem industrijskih postrojenja i uređa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vlašćenja, prava i dužnosti sanitarnog inspek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RS" sz="2400" spc="-1" strike="noStrike">
                <a:solidFill>
                  <a:srgbClr val="ffffff"/>
                </a:solidFill>
                <a:latin typeface="Comic Sans MS"/>
              </a:rPr>
              <a:t>Državni organi, pravna lica i druge organizacije dužni su da sanitarnom ispektoru pružaju stručnu pomoć, da sarađuju u vršenju sanitarnog nadzora i da stavljaju na raspolaganje sve podatke potrebne za vršenje tog nadz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ava i dužnosti sanitarnog inspek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RS" sz="2400" spc="-1" strike="noStrike">
                <a:solidFill>
                  <a:srgbClr val="ffffff"/>
                </a:solidFill>
                <a:latin typeface="Comic Sans MS"/>
              </a:rPr>
              <a:t>U vršenju sanitarnog nadzora sanitarni inspektor ima pravo i dužnost da zabrani korišćenje objekta ili dela objek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sr-Latn-RS" sz="2400" spc="-1" strike="noStrike">
                <a:solidFill>
                  <a:srgbClr val="ffffff"/>
                </a:solidFill>
                <a:latin typeface="Comic Sans MS"/>
              </a:rPr>
              <a:t>1)  ako pre početka rada nisu obezbeđeni uslov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sr-Latn-RS" sz="2400" spc="-1" strike="noStrike">
                <a:solidFill>
                  <a:srgbClr val="ffffff"/>
                </a:solidFill>
                <a:latin typeface="Comic Sans MS"/>
              </a:rPr>
              <a:t>2) ako postoje higijenski nedostaci, dok se ne otkl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sr-Latn-RS" sz="2400" spc="-1" strike="noStrike">
                <a:solidFill>
                  <a:srgbClr val="ffffff"/>
                </a:solidFill>
                <a:latin typeface="Comic Sans MS"/>
              </a:rPr>
              <a:t>3) nije pribavljena sanitarna saglasnost na idejni projekat i korišćenje objek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ava i dužnosti sanitarnog inspek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RS" sz="2400" spc="-1" strike="noStrike">
                <a:solidFill>
                  <a:srgbClr val="ffffff"/>
                </a:solidFill>
                <a:latin typeface="Comic Sans MS"/>
              </a:rPr>
              <a:t>4) naredi otklanjanje nedostatak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sr-Latn-RS" sz="2400" spc="-1" strike="noStrike">
                <a:solidFill>
                  <a:srgbClr val="ffffff"/>
                </a:solidFill>
                <a:latin typeface="Comic Sans MS"/>
              </a:rPr>
              <a:t>5) zabrani korišćenje ako utvrđeni nedostaci nisu otklonjeni u ostavljenom rok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sr-Latn-RS" sz="2400" spc="-1" strike="noStrike">
                <a:solidFill>
                  <a:srgbClr val="ffffff"/>
                </a:solidFill>
                <a:latin typeface="Comic Sans MS"/>
              </a:rPr>
              <a:t>6) obavesti drugi organ, kao i da podnese prijavu, odnosno da podnese zahtev za pokretanje prekršajnog postup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slovi sanitarnog nadz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nitarni nadzor je inspekcijski nadzor nad primenom zakona, drugih propisa i opštih akata i nad sprovođenjem propisanih mera, uključujući i kontrolu ispunjenosti propisanih sanitarno-tehničkih i higijenskih uslova, koje moraju da ispune objekti, prostorije, postrojenja, uređaji, nameštaj, oprema i pribor, namenska prevozna sredstva i lica koja podležu sanitarnom nadzoru, sa ciljem zaštite zdravlja stanovništ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slovi sanitarnog nadz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nitarni nadzor je i zdravstveni nadzor nad životnim namirnicama i predmetima opšte upotrebe u proizvodnji i prome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slovi sanitarnog nadz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nitarni nadzor je i zdravstveni nadzor na granici i drugim mestima gde se vrši carinjenje nad životnim namirnicama i predmetima opšte upotrebe koji se uvoze, kao i sanitarni nadzor nad putnicima, njihovim stvarima i saobraćajnim sredstvima u međunarodnom saobraća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slovi sanitarnog nadz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nitarni nadzor vrši ministarstvo za zdravlje preko sanitarnih inspekt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nitarni inspektori obavljaju poslove sanitarnog nadzora samostal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lasti koje podležu sanitarnokm nadz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last zaštite stanovništva od zaraznih boles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last zdravstvene ispravnosti životnih namirnica i predmeta opše upotrebe u proizvodnji, prometu i uvoz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last javnog snabdevanja stanovništva vodom za pić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lasti koje podležu sanitarnokm nadzoru obuhvata inspekcijski nadz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bjekata i njegoog neposrednog okruženj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nutrašnjeg prostora i prostorija u pogledu njihove građevinske celine, međusobne funkcionalne povezanosti i higijenskog stanj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strojenja, uređaja, nameštaja, oprerme i pribor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lasti koje podležu sanitarnokm nadzoru obuhvata inspekcijski nadz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)  sirovina, poluproizvoda i gotovih peoizvoda životnih namirnica i predmeta opšte upotrebe u proizvodnji i prometu, kao i sirovina, poluproizvoda i gotovih proizvoda životnih namirnica i predmeta opšte upotrebe koji se uvoze radi stavljanja u prom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7:06:13Z</dcterms:created>
  <dc:creator>zoran velickovic</dc:creator>
  <dc:description/>
  <dc:language>en-US</dc:language>
  <cp:lastModifiedBy>Zoran</cp:lastModifiedBy>
  <dcterms:modified xsi:type="dcterms:W3CDTF">2011-02-23T17:01:43Z</dcterms:modified>
  <cp:revision>10</cp:revision>
  <dc:subject/>
  <dc:title>ZAKON O SANITARNOM NADZORU</dc:title>
</cp:coreProperties>
</file>